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36B-8F07-4D38-B61C-11DF38FA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5C5-AB58-4A78-9FA5-4EA1E5E2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8F7-4CBD-4601-BE42-2C7295BA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5FE-3E8E-4545-8C68-8AAB53FE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966-30E1-4A38-AAE7-C717C63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F35-EE83-4F6C-ACF8-93DAD81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AF9-4DFE-4899-8BCD-D01ECBC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2CD-1F7B-4E99-980D-C0CE58A3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041-C013-40AB-946D-0C3BAEA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1C2-40D2-4E3F-AFB1-3193405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54C-B619-4D3C-BFC5-B2FE9701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21C-E6D3-4D9D-AEFF-C573DD2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E19-27F7-495A-8AE7-A6BA4565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06668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 Black"/>
              </a:rPr>
              <a:t>Doodles for Goog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85720"/>
            <a:ext cx="85341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62000" y="71280"/>
            <a:ext cx="9468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6535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53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62000" y="71280"/>
            <a:ext cx="9468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1960" y="585720"/>
            <a:ext cx="8020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1960" y="585720"/>
            <a:ext cx="8020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-181080"/>
            <a:ext cx="849600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0:52:29Z</dcterms:created>
  <dc:creator>Patrick J. Mooney</dc:creator>
  <dc:description/>
  <dc:language>en-US</dc:language>
  <cp:lastModifiedBy>Patrick J. Mooney</cp:lastModifiedBy>
  <dcterms:modified xsi:type="dcterms:W3CDTF">2010-03-17T21:47:14Z</dcterms:modified>
  <cp:revision>3</cp:revision>
  <dc:subject/>
  <dc:title>Slide 1</dc:title>
</cp:coreProperties>
</file>